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993-D7F6-4393-94C2-3D70BFF4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2DE-00E5-4AE6-9820-8DDCBEF2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46A-1C6A-49AE-8BE4-1C3069F3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251-6304-49DE-BF7D-BDFAB275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C2D-F0BD-40A7-BFDC-009C87EB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C43-3A2D-4C2E-9221-4B06B745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03F-E3A3-45A0-8864-7D4B0D98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049-8D9E-4988-8B53-C1D53156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BFD-FF82-4202-81CB-5C7C3C3A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FE5-CDF4-4882-A3CD-4766F0C9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7C8-CC2C-4250-8B83-508F51E0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DDF-15BA-487C-8716-AC4A9FD9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1CCA-564C-4E8B-BA94-EBC8C4A53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6 Láska Božia, svätá čist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 Božia, svätá, či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náš,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ašich srdciach ubytuj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sloboď spod ťarchy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ty nás zastupuj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lucítiš s hriešnik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júcim rád milosť dáva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lu zemským pútnik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ou Ducha, slovom prav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zbroj slabých, bezmocn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ľa svojho slova vráť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raj dávno strat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enie len v tebe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ám ži v nás život s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celý svet ťa pozn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ájomnou nás láskou sp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konaj v nás, svät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lo, čo si započ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je tvoj ľud priprav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vrátiš ako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menu od slávy k slá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ôsob mocou svojou v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e teba oslavo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i v zemi večných kr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5T10:29:15Z</dcterms:modified>
  <cp:revision>32</cp:revision>
  <dc:subject/>
  <dc:title>Je veľký náš Pán, on slávy je Kráľ Nech do všetkých strán  spev vrúcnych znie chvál.</dc:title>
</cp:coreProperties>
</file>